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D2EB6-092F-436D-9805-8FBD71F89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E1497-E5CA-4000-AAA3-346EE8B6E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94267-C81D-4580-B8CE-6760886C9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32E11-7C18-4F61-95E8-B70F6D634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39CBB-927A-46C9-8E0F-F048C78C7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9377D-692D-433C-B42E-81C696E2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53EC3-FF19-44E4-BD7E-C933D8A5A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6F98F-235E-4CF0-A3FC-32EE2A3DE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D2EEA-0183-4E59-B534-7151748FD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0FE48-EA84-456F-88B9-A90AE0D4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C467-201E-450F-A33B-645A0775A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2D65-3BB0-46DA-B45F-F080E890A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5B5C6-8D57-412C-B6DA-ADE602FA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885D3-7F9C-4D87-B16A-8A90BA74C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ED54B-C8E9-4B7C-B68E-AEE231012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9A8CD-92CE-4472-8ACD-695A3F8DB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29DDA-816F-41D6-9C23-04D702798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D8C2F-8586-4521-896D-8AC525B3F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F975E-F28C-4F16-A282-5C15E7CCF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FDDAB-321C-4E06-BD4B-74E71B26E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A069B-0F8E-46BA-A44A-E25318E0D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46CE0-0806-4B2D-816F-7D0548063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A3A5-B721-477F-8D92-4E41E4A4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3401D-D293-43E9-8F23-35871629A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18024-F1C4-49AB-9363-8DA7A4303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5E9E7-F237-453B-922F-01BFB3788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B6851-F486-49E5-B95E-B3AA825D7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62DA3-D0CA-4405-923F-351BFB9EE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87A94-1EBF-4DA0-A81E-DC8305A7CD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2542B-A652-4EA8-8B14-D7ECE2519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D7341-727A-4D64-B51E-938AA78D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BE58-813C-4C19-A6AC-892C9F48F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721EB-869E-4DDE-A45C-0F366419D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8A922-62DF-4622-A5BA-00B4A9981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D9F5-16B4-485A-A5DC-8E9246643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71A8-6E14-4A06-8F74-37CC3C9F8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23F9-B538-40DD-B91D-954540DFAB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DEEA-E25D-4D71-AC88-6646223329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4C0E-EF29-4BCF-91B3-001E5356A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3DF345C6-9BAB-4276-83DB-F81A512583BD}"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8CBD862-5C9A-4968-AB18-D3EC76A43F85}"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B92360AD-49DD-41DB-BD9E-0A9DFA098FCA}"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9CB3EB8-A0E7-4EF1-8AC2-F52968FFCACC}"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56F5AD6-F81F-48BE-9F7B-EFD3933D01FE}"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A4F809CB-E303-4003-9932-CB0D2E626C6B}"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F527893-5134-4DC4-A06B-42A43D0F3F13}"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8C62003-8819-4BB6-99B1-341DE84AA741}"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23D8A0A-21A7-425A-9826-FC9AF115D454}"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069DBC5D-A5E7-4AC1-90D4-D43C4570CEAF}"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F0B7FC7E-396C-46AF-A692-0AC62BB7BBF6}"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EABA9B3-7E1B-48B5-B0FC-C49A75A07B0A}"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5486D2E-E583-454F-A4F4-1F635ACA1C51}"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9F8E78D-A437-4375-B937-4A31DA2C5B0A}"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F973148-B92D-44B4-921D-821157F1C6F4}"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33AB6D3-3957-4ADD-B0C8-CD38C8B11A9A}"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4491EC04-7F30-4518-9659-CD400589D5C2}"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C8CC3A0-1F48-4CF8-BDB4-A62622EC27FA}"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659B8B90-7726-4874-9501-66810548DC26}"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0603F00-7F85-491A-A65E-03C591A3C482}"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80A0D2B-2949-47C3-BFD6-F9F3D50E21B8}"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30C3158-A63E-4B9D-8850-4ABE5D38FF92}"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76523EFF-60B0-446F-B803-BD696A24CE34}"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E236284-1311-49DF-B378-2D12DB2EC8CD}"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3C8CE89-ED79-4A61-B657-7057417EAE40}"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4200D4A-CA7B-4883-9BA9-D6E9038094B4}"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9E7882A-3613-45E2-BA02-D88919793977}"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060CC9B-EDF0-479F-A039-43D789B4D41B}"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FEC3703-5158-450A-A666-D8705E6EA9C1}"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EF71870-005D-4459-9656-8F0C8D796EB7}"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99B8CE7-C553-4B66-B3CC-99CD8AC775DF}"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C2810A1-2131-4FEF-86DA-F2CDE144FEEC}"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AF308A4-9787-447F-AFDC-A7EC7969430B}"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B5DCEA6-FA3D-47DF-9D19-996B2CC5C8BC}"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8373A6C-2C41-4DD9-89E7-C6CED10C8FAB}"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6183677B-593A-487F-9052-40C699CC1527}"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2D83AB7-4903-4A01-AD73-016F8A159161}"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12A95B07-D376-461D-B051-ACA3484E92D1}"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7444141-6D05-483D-86F9-31779F9B1C4A}"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CBB8FB9-1D7B-46EB-8F2A-B3219A0EEE70}"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72A96853-B770-4893-9239-967197EE683D}"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E3F2572-F622-48F5-8F68-C6CB38AFCBD7}"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4D2B2C5-B2E5-4053-BECD-1F57069A38A7}"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97EB45A-8CFE-4436-B8F8-7691E434AC95}"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84515CE-B308-4319-AFC0-42E89BC0D1BE}"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FCDA1B4-11D3-42DF-BB40-A1B236232E3B}"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B6FAD76-49B3-4435-9713-01DCDDEC96E0}"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3D64794-6CF4-4AAB-A4D0-563B2D04E9C4}"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FF7779F-7079-4DED-913C-E753556551CA}"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234961A-39AA-4485-9D29-DF9DB215A32D}"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478FA3F-C340-4426-AF30-74809FDD4BD2}"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CCACE48-87E0-4271-8137-2813F78FCC0C}"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D2C75154-5E73-466C-97AA-AD41EBC5578E}"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CB26E35D-3470-4D62-AC6C-843AE13426A5}"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EA5F32E1-87FD-40EA-81C8-C0838CB83378}"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66DD23FD-3A30-453F-A618-10F9D05243B5}"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